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715C-0A98-418D-AD1C-1F744C54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0312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A457-1679-43E5-BE2A-D6B4009F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0312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C18-7F84-4167-8996-B39102A9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20312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0DD-3858-44C2-AEA9-BB0C5CD5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0312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4F7-0D7A-4299-A071-BBD0960D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0312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989-5EAD-47D3-96C4-F16E1464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0312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B58F-2A37-4D1F-A9C7-53753B71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0312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6043-1AC1-416F-B2BC-90F31473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880-1EE4-4C70-81C6-9D609927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0312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2F7-8238-4907-89F8-31386749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0312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68D3-7DF8-4240-930D-68EAB14E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0312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57A-F96F-4F7D-8827-054F6CC8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975B-6B27-4FBD-A325-20B415029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2440" y="76320"/>
            <a:ext cx="1212840" cy="9144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362240" y="228600"/>
            <a:ext cx="3208320" cy="7398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93720" y="2362320"/>
            <a:ext cx="6032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ick View Plus 5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97 Sample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VP: Who needs it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h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nter file types not known to or supported by their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sh to gain efficiency by viewing files rather than launching an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nter native documents on the Internet/Intra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 email with native document attach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rporate/Gov’t Organizations that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disparate computing enviro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email or groupware applications with limited or no embedded viewing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mplementing an intra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ignificant numbers of mobile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ing to new operating systems and/or new apps with no backward compat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VP Features &amp; Benefi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, import and print files in 250 +  formats quickly and easily without having the native ap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s time, minimizes user frustration, expands access to information, and eliminates the expense of seldom used 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mail Integr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mlessly integrates into major email applications allowing users to view and print attachments quickly and easily within the email ap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the email recipient uninterrupted focus on the content of the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plorer Integr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mlessly integrates in MS Explorer providing instant access to the context of all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s significant efficiency to file and information management 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owser Integr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 and print non-HTML files from within Netscape Navigator and Microsoft Internet Explor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hicle for distributing information via a corporate intranet without the hassle, time, and expense required for HTML con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ll Functional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QVP to “host” 3rd party plug-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ing Quicktime, Adobe Acrobat, Corel CMX, Envoy, Shockwave Flash, Flying Carpet, PNG Live, Shockwave Director, Softsource SVF, Softsource DWG, Live Audio, AVI Play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be Acrobat is included in QVP 5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0640" y="1440000"/>
            <a:ext cx="6019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851" t="0" r="0" b="11593"/>
          <a:stretch/>
        </p:blipFill>
        <p:spPr>
          <a:xfrm>
            <a:off x="990720" y="1676520"/>
            <a:ext cx="1331640" cy="1815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1598400" cy="1484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943600" y="1905120"/>
            <a:ext cx="2790720" cy="1028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324480" y="2743200"/>
            <a:ext cx="2102040" cy="460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552840" y="1776240"/>
            <a:ext cx="2224080" cy="1338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200400" y="1828800"/>
            <a:ext cx="2224080" cy="1338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477120" y="4419720"/>
            <a:ext cx="2665440" cy="24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0" y="4419720"/>
          <a:ext cx="2543040" cy="133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419720"/>
                    <a:ext cx="254304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ulie Garrett</dc:creator>
  <dc:description/>
  <dc:language>en-US</dc:language>
  <cp:lastModifiedBy>Karen Kantor</cp:lastModifiedBy>
  <dcterms:modified xsi:type="dcterms:W3CDTF">1998-06-04T19:06:55Z</dcterms:modified>
  <cp:revision>24</cp:revision>
  <dc:subject/>
  <dc:title>QVP Transition Meeting #1</dc:title>
</cp:coreProperties>
</file>