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C050-CAD4-4E7A-B8AC-05F57B21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104A-94BB-45E5-8343-7FC79867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AA31-16F4-4B0F-ABC9-2C93F7585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B515-8E59-414C-A668-45CFA6FF5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14BD-F855-48E4-A031-FCBE4EC2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19CD-C24D-4EA5-8CFB-03607724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B694-E147-40A8-8E9D-BA816457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97C1-5298-438D-B97C-33AB1AB3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B52D-DE2A-40C9-B10D-ADC31312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0329-0F32-412F-A5A9-4196F39B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A931-BAAC-441A-89C8-4A38C4DD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751F-0D56-4A93-95F3-8FB8B197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F6EE-7D07-4BDC-A41D-523576CE96A3}" type="slidenum">
              <a:rPr b="0" lang="en-US" sz="14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werPoint Dem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Text boxes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Tables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Charts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Pictures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6765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extbox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676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extbox 1</a:t>
            </a:r>
            <a:endParaRPr b="0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22240" y="2754360"/>
            <a:ext cx="2073240" cy="3967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spcAft>
                <a:spcPts val="1001"/>
              </a:spcAft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6000"/>
            <a:ext cx="7864560" cy="4597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extbox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 2</a:t>
            </a:r>
            <a:endParaRPr b="0" lang="en-US" sz="20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2895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abl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3716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23880" y="2666880"/>
          <a:ext cx="6324840" cy="3353040"/>
        </p:xfrm>
        <a:graphic>
          <a:graphicData uri="http://schemas.openxmlformats.org/drawingml/2006/table">
            <a:tbl>
              <a:tblPr/>
              <a:tblGrid>
                <a:gridCol w="2057400"/>
                <a:gridCol w="2133720"/>
                <a:gridCol w="21337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Char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6765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Pic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6765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  <p:pic>
        <p:nvPicPr>
          <p:cNvPr id="57" name="Sample" descr=""/>
          <p:cNvPicPr/>
          <p:nvPr/>
        </p:nvPicPr>
        <p:blipFill>
          <a:blip r:embed="rId1"/>
          <a:stretch/>
        </p:blipFill>
        <p:spPr>
          <a:xfrm>
            <a:off x="2954160" y="2217600"/>
            <a:ext cx="3235680" cy="2422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0T16:02:43Z</dcterms:created>
  <dc:creator>Fred Huffman</dc:creator>
  <dc:description/>
  <dc:language>en-US</dc:language>
  <cp:lastModifiedBy>fredh</cp:lastModifiedBy>
  <dcterms:modified xsi:type="dcterms:W3CDTF">2000-06-14T21:26:42Z</dcterms:modified>
  <cp:revision>26</cp:revision>
  <dc:subject/>
  <dc:title>OfficePartner PowerPoint Demo</dc:title>
</cp:coreProperties>
</file>